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1FC-7B1C-4BC8-9680-E5328793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613-649A-40A4-AFCE-771C39F0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525-13B3-433A-81A6-4C63F9EB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EA7-2297-4420-8EE9-079BCB59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B60-F087-4ADF-8D93-1621170A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688-9EDE-4772-A8B9-67545513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5D4-0D29-44A1-A752-F17F85EA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435-1BA9-40F6-B0E8-3889A621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7BF-8331-468B-8960-AF447041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E00-6875-4257-9826-253F1C9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637-B826-4031-8D61-311D6DCD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CBA-5DE5-4445-9361-50623CF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F39-2FB2-4F5D-9F42-3D765E026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o's More Athleti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s vs.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 hypothesis was wrong. The girls got better average scores than the boy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 is more athletic, boys or girl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our school, the boys are always saying they are more athletic and better at sports than the gir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are more professional boy football and baseball players than gir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were more boys in the olympics than girls in most spor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re boys have won in the running or throwing s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predict that boys will be more athletic than girls. If the boys are more athletic than others, then they will get better scor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 bo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 gir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pw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igh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ther all materi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how many push ups they can 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free throw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how long they can hold weigh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stair la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arm wrestl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down resul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jor Observa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people saw the resul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people put their feet against the wall when doing push 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they held the weights was differ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4120" y="523800"/>
            <a:ext cx="9390240" cy="5100840"/>
            <a:chOff x="384120" y="523800"/>
            <a:chExt cx="9390240" cy="5100840"/>
          </a:xfrm>
        </p:grpSpPr>
        <p:sp>
          <p:nvSpPr>
            <p:cNvPr id="59" name=""/>
            <p:cNvSpPr/>
            <p:nvPr/>
          </p:nvSpPr>
          <p:spPr>
            <a:xfrm>
              <a:off x="38412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w they were tes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25480" y="523800"/>
              <a:ext cx="134172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sh up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6720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ir la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856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igh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4992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ee th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91280" y="52380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arm, arm wrest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32640" y="523800"/>
              <a:ext cx="134172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ft arm, arm wrest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412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irls aver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25480" y="2228760"/>
              <a:ext cx="134172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6720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0856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:30 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992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/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91280" y="2228760"/>
              <a:ext cx="134136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/6 w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32640" y="2228760"/>
              <a:ext cx="134172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/6 w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412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ys aver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5480" y="3919680"/>
              <a:ext cx="134172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6720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0856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:30 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992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/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91280" y="3919680"/>
              <a:ext cx="1341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/6 w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32640" y="3919680"/>
              <a:ext cx="134172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/6 w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32640" y="52380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32640" y="222876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32640" y="391968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432640" y="562464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412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2548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720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0856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992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128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3264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74360" y="391968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412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412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412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412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412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12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2548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2548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2548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412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412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12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25480" y="52380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25480" y="52380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25480" y="52380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6720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6720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6720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25480" y="222876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25480" y="222876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25480" y="222876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720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720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6720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856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0856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0856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720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6720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6720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856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0856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0856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992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4992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992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0856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0856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0856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992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992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992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9128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128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9128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992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992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4992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9128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1280" y="52380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91280" y="52380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3264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3264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3264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128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91280" y="222876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91280" y="222876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52380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32640" y="52380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77436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774360" y="52380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774360" y="523800"/>
              <a:ext cx="0" cy="1704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32640" y="222876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32640" y="222876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412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412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12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2548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2548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2548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412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412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12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6720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6720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6720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25480" y="391968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25480" y="391968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391968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0856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0856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0856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6720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6720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6720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4992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992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4992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0856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0856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0856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9128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128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9128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4992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992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4992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3264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3264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3264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9128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91280" y="391968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91280" y="391968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77436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774360" y="2228760"/>
              <a:ext cx="0" cy="16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774360" y="2228760"/>
              <a:ext cx="0" cy="1690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32640" y="391968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32640" y="391968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12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412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2548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2548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12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412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412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6720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720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25480" y="562464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25480" y="562464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5480" y="5624640"/>
              <a:ext cx="13417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0856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0856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6720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6720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720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992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992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0856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856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0856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9128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128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4992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992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4992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3264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3264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9128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1280" y="5624640"/>
              <a:ext cx="13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280" y="5624640"/>
              <a:ext cx="1341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77436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774360" y="3919680"/>
              <a:ext cx="0" cy="17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32640" y="562464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32640" y="562464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